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DCE2-F315-4E6B-A278-DEF993512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3E8B-BC2D-4015-ABC5-BA200E0AF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B21-934E-4E18-BDEE-A0110F52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B7E-4BE1-4B34-BD6A-3E8E416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255-8638-4365-97D6-FB460375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360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092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628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360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092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14F-AD12-41FF-BA2C-9183F382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0D9F-34C9-4886-B7D9-A940E72C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5260-E85B-424C-B753-7D59D821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E483-B536-48BB-815B-015CECBF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3C7C-7DA2-4957-8F59-81B457C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BB9A-BB29-4BBE-A89E-6F568F03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9480" y="344160"/>
            <a:ext cx="73450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6737-21DD-404B-A6E9-857A09AE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58C1-A904-41C0-968C-711CBA26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16D-8A27-4FCA-8241-FF3B1488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FE0-2488-4330-B50E-B47D305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942A-3380-4CD4-9E58-68E306BD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B9C-597E-4466-9FBA-019E9BBC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B9B6-0F78-41E6-8F62-2360A25D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360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092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628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360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092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5E25-A25D-4DB5-890D-A6A2A4D0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DD2-A546-464E-9BD4-0101EB1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0F9-B3EB-4564-9E34-AD30CC7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E6E-C020-4BDF-89DF-24CB25AD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9480" y="344160"/>
            <a:ext cx="73450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454-461B-48D8-8701-30FDC44D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1D2-0AD4-47C5-B94F-7EB04FE4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308-4DD2-4A5E-B429-3718BF0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463-3AF1-4D59-9719-C51C8A3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\\Penfold\Clients2\CUSTOM_SERVICES\2004 Updates\April\static templates\Medical\PPP_SMEDI_TXT_Patient_Reco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598760" indent="-22716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F56-8E6D-4A44-884D-42726E90FEEB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2E86-B29C-4883-9F0A-9CA8FB3A82C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\\Penfold\Clients2\CUSTOM_SERVICES\2004 Updates\April\static templates\Medical\PPP_SMEDI_TLE_Patient_Reco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598760" indent="-22716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5878-5006-4B34-A07A-CF1D71003BBB}" type="datetime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64B6-2066-4361-A1E9-5CDCC8F090A0}" type="slidenum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3840" y="2134800"/>
            <a:ext cx="5423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care Support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9000" y="2895120"/>
            <a:ext cx="521352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ign of ER of the Futu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a Kh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rish Venkatesh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jay Ramnath Jayaram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5BB8-A59D-4BAA-BB99-647F2606CCD5}" type="datetime">
              <a:rPr b="0" lang="en-US" sz="1100" spc="-1" strike="noStrike">
                <a:solidFill>
                  <a:srgbClr val="4d4d4d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1729-42D4-46A8-AA2F-46C9BE43DD67}" type="slidenum">
              <a:rPr b="0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3840" y="2134800"/>
            <a:ext cx="5423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500280" y="3235320"/>
            <a:ext cx="521352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estions &amp; Suggestions?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B2F8-EAEC-4BEB-8997-DCF3FF138846}" type="datetime">
              <a:rPr b="0" lang="en-US" sz="1100" spc="-1" strike="noStrike">
                <a:solidFill>
                  <a:srgbClr val="4d4d4d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867C-D0F3-4B9B-A155-3B1ADB369DBD}" type="slidenum">
              <a:rPr b="0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s leave the Hospital without comprehension of discharge diagnosis which commonly results i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s not adhering to medical advi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effective follow-u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2438280" y="3429000"/>
            <a:ext cx="3505320" cy="30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/>
            </a:outerShdw>
          </a:effectLst>
        </p:spPr>
      </p:pic>
      <p:sp>
        <p:nvSpPr>
          <p:cNvPr id="99" name="Date Placeholder 5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3C1A-918D-43C2-911B-789077E2E623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8B9-6DBD-4EC5-A2B7-5E7C54ACE6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7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Product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920" y="1584360"/>
            <a:ext cx="428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33560" y="1584360"/>
            <a:ext cx="428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nteractive Discharge table/kiosk (like a Microsoft Surfac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signed to address all the core issues with discharge in addition to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atients provided with info about his/her health (audio/visual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n the follow-up options (mobile phone/email aler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viders can add-on notes, have the normal functionality of an EM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djustable for all the patients with different acuity leve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1472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Date Placeholder 6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17B-C886-44BF-B582-F7BD8DB7B9E9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D64E-68D8-4BA9-9220-DD398D4731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Hardwar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238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est/Expensive option – Buy a Microsoft surface computer and worry only about the Software Design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s: multi-touch process (doctor/patien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s: no flexibl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96640" indent="-29664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Viable Solution – Simulate a Surface computer(computer projector  + touch screen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s: Cheap, can build a flexibl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s: No multi-tou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ardware/Software support for mobile alerts (text, audio &amp; visual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heels, adjustable (height and angl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udio/Video recording/suppor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nternet connectiv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70440" y="2279520"/>
            <a:ext cx="1768320" cy="147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931080" y="1596960"/>
            <a:ext cx="191448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7388280" y="3346560"/>
            <a:ext cx="1407960" cy="176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4870440" y="3956040"/>
            <a:ext cx="2043000" cy="176220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16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78E7-4AD3-4663-81E8-95E2F6CCA84E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7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F278-F6CE-4541-B738-FA26589790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8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5"/>
          <a:stretch/>
        </p:blipFill>
        <p:spPr>
          <a:xfrm>
            <a:off x="7083360" y="5254560"/>
            <a:ext cx="1609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8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&amp;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160020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top has doctor and patient login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ain differenc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 login disallows access to records of other patient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top main men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R C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ost ER C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088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in scree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in type(doctor/patient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Usernam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tient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octor login, is able to search for patient using patient last name and ID(TBD).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tient login, can only view his/her medical details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R Ca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revious ER discharge histo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T’s &amp; X-rays from earlier visi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urrent discharge for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ink to anatomy atl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ost ER Ca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arlier prescription schedu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ietary restrictions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llow-up inform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abling/Disabling medicine remin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abling /Disabling follow-up remin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(Clicking a discharge form, follow-up information, anatomy or CT images opens them in a new window on top of the main window.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ying it down to our problem stat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natomy Atla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esign Deci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on whee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yl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terfac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teraction sty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cces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ase of use and Deploy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uilding on top of existing practi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sit to Emory 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Witness the actual discharge procedu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ocumentation of discharge instruc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icro level designs and featu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mplement and Test iterativel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7E42-F926-43A5-91F8-E747952AE622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A775-0043-4509-B7A6-6F1364A753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8:54:34Z</dcterms:created>
  <dc:creator>Georgia Institute of Technology - OIT - ITS</dc:creator>
  <dc:description/>
  <cp:keywords/>
  <dc:language>en-US</dc:language>
  <cp:lastModifiedBy>Girish</cp:lastModifiedBy>
  <dcterms:modified xsi:type="dcterms:W3CDTF">2008-10-28T19:31:40Z</dcterms:modified>
  <cp:revision>41</cp:revision>
  <dc:subject/>
  <dc:title>Aftercare Support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41033</vt:lpwstr>
  </property>
</Properties>
</file>